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FBD7-8411-4E86-9DA3-0E8B343B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B651-E592-4079-BFD2-937CF998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2932-B504-4450-BE8B-85E7E2DE2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7C8D-A43E-4673-B426-65BC61CF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34E2-FD96-4B64-BB29-895ED2F2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CFE6-0065-41E2-8719-988BEA27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FCE5-E50A-4A86-BEA4-C2A5874E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72E8-D303-438C-A2CE-8B5EB43D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A1FB-AAF8-412F-9D6A-5EE0BC90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7616-B87E-4F32-81B6-27797373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9531-4722-4FF2-8076-D2D82D35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A6CA-AE7B-4DEB-963E-346F2399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8B96-BF4C-4477-8473-A577DD68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D70E-195F-4267-A7BD-BBEA6923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D2E6-86AB-4FC9-9E57-86410808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7EEB-4899-495E-A8AD-BBCD9889B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E7F3-A305-4749-8C86-5C0CF2D5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C3AA-F569-4017-A947-17E59858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A1EC-E302-47D4-B5D1-C41D201B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EA38-4249-4740-B14A-99A266FB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3547-B838-40A5-933A-88DB1155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9DEF-394E-4C9C-8496-EEB05BA2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1C50-6FAE-496F-A585-CD1FBBF7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167D-A89A-4B65-9F56-18892649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1555-8844-4A5C-B8EB-D49B06F3F4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3037-DA01-4B61-BD1A-B4B0EB39E7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gamma.rug.nl/iechome.html" TargetMode="External"/><Relationship Id="rId2" Type="http://schemas.openxmlformats.org/officeDocument/2006/relationships/hyperlink" Target="http://www.spss.com/software/science/bmdp" TargetMode="External"/><Relationship Id="rId3" Type="http://schemas.openxmlformats.org/officeDocument/2006/relationships/hyperlink" Target="http://www.ioe.ac.uk/multilevel" TargetMode="External"/><Relationship Id="rId4" Type="http://schemas.openxmlformats.org/officeDocument/2006/relationships/hyperlink" Target="http://www.sas.com/" TargetMode="External"/><Relationship Id="rId5" Type="http://schemas.openxmlformats.org/officeDocument/2006/relationships/hyperlink" Target="http://www.uic.edu/~hedeker/mixdos.html" TargetMode="External"/><Relationship Id="rId6" Type="http://schemas.openxmlformats.org/officeDocument/2006/relationships/hyperlink" Target="http://www.uic.edu/~hedeker/mixdos.html" TargetMode="External"/><Relationship Id="rId7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tp://ftp.lisrel.com/hlm/windows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101320"/>
            <a:ext cx="777240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HLM6 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软件操作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国人民大学统计学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陈堰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848720" cy="498168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365760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410080" cy="489420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3657600" y="6094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541044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76320" y="595440"/>
            <a:ext cx="8991360" cy="50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562720" cy="511164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276720" y="6094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指定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变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790960" cy="532296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3276720" y="3808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指定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变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保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D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D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查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D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统计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3048120" y="1143000"/>
            <a:ext cx="3047760" cy="171936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3429000" y="3505320"/>
            <a:ext cx="2209680" cy="87948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3"/>
          <a:stretch/>
        </p:blipFill>
        <p:spPr>
          <a:xfrm>
            <a:off x="3352680" y="5257800"/>
            <a:ext cx="228600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48720" cy="49100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2743200" y="5335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D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描述统计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701064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HLM6 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的五个模块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480060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867280" cy="512928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3200400" y="5335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结果变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553080" cy="394632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3733920" y="6858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条件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609480" y="160020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old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黑体：按总平均数对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old italic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黑斜体：按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平均数（组平均数）对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534160" cy="95076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3733920" y="6094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中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5105520" cy="419868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2"/>
          <a:stretch/>
        </p:blipFill>
        <p:spPr>
          <a:xfrm>
            <a:off x="3886200" y="2895480"/>
            <a:ext cx="5029200" cy="363240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5486400" y="15238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填加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释变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839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level-2 model, both the intercept and SES slope are to be modeled as dependent on the school's mean social class (MEANSES) and school sector (SECTO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57913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172200" cy="44798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2971800" y="623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填加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解释变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6400800" cy="335916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2209680" y="3124080"/>
            <a:ext cx="6477120" cy="33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620120" cy="167472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3733920" y="8380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混合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6705720" cy="273672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228600" y="2473200"/>
            <a:ext cx="5867280" cy="438480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5562720" y="3733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level sub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5715000" cy="299880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1981080" y="3505320"/>
            <a:ext cx="6782040" cy="308916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1600200" y="2286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指定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系数为随机的或非随机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152280" y="457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40000"/>
                </a:solidFill>
                <a:latin typeface="Arial"/>
              </a:rPr>
              <a:t>The HLM program encompasses 5 modules that may be used to fit different types of mod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LM2 module is used to fit two-level linear and non-linear (HGLM) models. It offers the widest array of special features, output, and hypothesis testing op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LM3 module is used to fit three-level linear and non-linear (HGLM) models. The range of features are similar to that of HLM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6934320" cy="593064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1905120" y="22860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果分析（与课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页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3657600" y="2430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设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28600" y="898560"/>
            <a:ext cx="86104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305920" cy="458496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3124080" y="3808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残差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229600" cy="430560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2895480" y="3808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残差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609120" y="1520640"/>
            <a:ext cx="8153640" cy="48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手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36~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结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PS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描述统计和统计图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残差的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残差的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809880" y="457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残差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609120" y="152388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生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D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文件时逐条删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分析时逐条删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nalysis of multiply-imputed dat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ection 9.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型，因假设是完全的，如果有缺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mpute a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删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described  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Section 9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743200" y="4572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确实数据的处理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46~4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4572000" cy="278748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3809880" y="457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他设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124080" y="5335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收敛的控制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4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380880" y="1446120"/>
            <a:ext cx="8305920" cy="43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76320" y="1109520"/>
            <a:ext cx="89154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64660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2438280" y="22860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stimation cont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MLM module allows estimation of multivariate normal models from incomplete data. Within the framework of HMLM, it is possible to estimate models ha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6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 unrestricted covariance structure, that is a full covariance matrix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6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model with homogenous level-1 variance and random intercepts and/or slopes at level-2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6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model with heterogeneous variances at level 1 (a different variance for each occasion) and random intercepts and/or slopes at level 2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6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model that includes a log-linear structure for the level-1 variance and random intercepts and/or slopes at level 2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6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model with first-order auto-regressive level-1 random errors and random intercepts and/or slopes at level 2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1981080" y="304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o put constraints on fixed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924680" cy="591372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685800" y="1143000"/>
            <a:ext cx="2590920" cy="46836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3"/>
          <a:stretch/>
        </p:blipFill>
        <p:spPr>
          <a:xfrm>
            <a:off x="609480" y="1600200"/>
            <a:ext cx="236232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3429000" y="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异方差建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382240" cy="151920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5638680" cy="237168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3"/>
          <a:stretch/>
        </p:blipFill>
        <p:spPr>
          <a:xfrm>
            <a:off x="4114800" y="3111480"/>
            <a:ext cx="441972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3581280" y="3049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假设检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83944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124760" cy="116208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8305920" cy="35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304920" y="477720"/>
            <a:ext cx="845820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dels without a level-1 inter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efficients having a random effect with no corresponding fixed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9001080" cy="115704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152280" y="5727600"/>
            <a:ext cx="8839440" cy="74952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3"/>
          <a:stretch/>
        </p:blipFill>
        <p:spPr>
          <a:xfrm>
            <a:off x="228600" y="5075280"/>
            <a:ext cx="594360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二、三层模型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38080" y="16002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是课本第八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22096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ata input requires a level-1 file (in our illustration a time-series data file), a level-2 file (child-level file), and a level-3 (school level)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30556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153280" cy="66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LM2 allows for study of multivariate outcomes for persons who are, in turn, nested within higher-level units and offers similar modeling features as HML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CM2 module is used for two-level cross-classified random effects models, where lower-level units are cross-classified by two higher-level un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98440" y="-766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三、分层广义线性模型（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HGLM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685800" y="1015920"/>
            <a:ext cx="708660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07696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示例数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xamples\Chapter6\THAIU1.H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其它软件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VARCL </a:t>
            </a:r>
            <a:r>
              <a:rPr b="0" lang="zh-CN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www.gamma.rug.nl/iechome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MDP5-V </a:t>
            </a:r>
            <a:r>
              <a:rPr b="0" lang="zh-CN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http://www.spss.com/software/science/bm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Ln </a:t>
            </a:r>
            <a:r>
              <a:rPr b="0" lang="zh-CN" sz="32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http://www.ioe.ac.uk/multi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ROC MIXED </a:t>
            </a:r>
            <a:r>
              <a:rPr b="0" lang="zh-CN" sz="32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http://www.sa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IXOR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IXREG </a:t>
            </a:r>
            <a:r>
              <a:rPr b="0" lang="zh-CN" sz="3200" spc="-1" strike="noStrike" u="sng">
                <a:solidFill>
                  <a:srgbClr val="0066cc"/>
                </a:solidFill>
                <a:uFillTx/>
                <a:latin typeface="Arial"/>
                <a:hlinkClick r:id="rId5"/>
              </a:rPr>
              <a:t>http://</a:t>
            </a:r>
            <a:r>
              <a:rPr b="0" lang="zh-CN" sz="3200" spc="-1" strike="noStrike" u="sng">
                <a:solidFill>
                  <a:srgbClr val="0066cc"/>
                </a:solidFill>
                <a:uFillTx/>
                <a:latin typeface="Arial"/>
                <a:hlinkClick r:id="rId6"/>
              </a:rPr>
              <a:t>www.uic.edu/~hedeker/mixdo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2895480" y="2971800"/>
            <a:ext cx="33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301680"/>
            <a:ext cx="822960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原始数据的格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PS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SCI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A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Y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生版的限制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于两层模型，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2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观测，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观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于三层模型，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多只能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5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7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观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每层不能超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效应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Effect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，效应的总数不能超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载地址：</a:t>
            </a:r>
            <a:r>
              <a:rPr b="0" lang="zh-CN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ftp://ftp.lisrel.com/hlm/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主要内容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层模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层模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层广义线性模型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GL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层多元线性模型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ML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LM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作图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-2362680" y="0"/>
            <a:ext cx="854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一、两层模型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SCI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格式的数据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变量必须是字符型，对于其它格式，可以是字符或数值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层一数据必须以层二单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组，并在导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L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前排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数值型，范围必须在         到          之间。如果是浮点数，则小数部分被忽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字符型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能超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给定层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必须一样宽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81280" y="76212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关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变量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1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6248520" y="3733920"/>
            <a:ext cx="990360" cy="34128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7696080" y="3733920"/>
            <a:ext cx="990720" cy="3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15364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Hierarchical Linear Model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四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657600" y="457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例讲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lmF</cp:lastModifiedBy>
  <dcterms:modified xsi:type="dcterms:W3CDTF">2009-09-01T02:12:3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